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8B1D-1047-4689-A9D9-486AC21D0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B995-FCFD-48C4-B3CF-725E5A28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14B0-88B3-4F3D-A951-DD95BD5EF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430A-5E2C-4C8C-80B7-2E5647F92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D52C-0304-43DA-8E13-DFBE25604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179D-1C60-4764-B60D-BD237D6E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B125-0B99-4F70-95E4-3FC73079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7D7E-C55F-40AA-A35D-6F3F6DBD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639E-5920-43EB-B8E7-9AC491AC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B3B4-F6D8-4922-B273-1CD1F776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5100-5048-4E46-A905-D4236C31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1951-BD17-4F45-9704-EF502B3C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26D8-FAB5-4967-B345-257F9216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206B-B7F0-4F37-ACF6-19A75F69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C4F4-7EED-461D-875C-B78A1051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71D4-FC50-405A-8D8D-2FB463DBD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96C2-7BE7-46C0-8842-37E20B650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690C-C764-4F9C-8ADC-7D28ED03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36F6-B67E-44AA-8F44-4B2756CB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47E2-FAE0-40E5-BC5A-AA9BFAC3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EB20-691F-4F4F-BD62-A40139AF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72BF-5C08-4CFF-915D-1890C6BF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56CC-05FD-4816-A867-78D040E7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873C-53EB-4733-B1DF-9F11AB39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C060-084E-42D3-AD40-28C19CA0C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8C1D-4F29-4A9F-8911-E33737DDC6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itch-Then-Plan Video Planning Templat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ortant Tip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alk slowly and clearl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e enthusiasti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actice, Practice and Practi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lax and have fun!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out This Templat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use this template, read then delete all of the slides that have a black background.  Complete the slides that have a blue backgrou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out Entrepreneurshi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o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not learning to do, is the essence of entrepreneurshi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ember, no one ever achieved success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lann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or go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ardest thing about getting started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et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r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an (emerging) entrepreneur, you should always be selling—not strategizing about s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roper Proc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row together a pitch that contains the slides presented in this templat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ry it out on some mentors, friends, and relatives.  Do this about ten tim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et the team together in a room and discuss what you have learned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x the pitch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tart writing the script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plain Your Movie in The First Minut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ver has a presentation been given where the audience has said to itself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 wish the speaker had spent the first fifteen minutes explaining his life stor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le you</a:t>
            </a: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 busy warming up, your listeners are inevitably wondering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s your movie abou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everyone a favor:  Answer that question in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irst minu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 Once the audience has learned what you do, they can listen to everything else with a more focused perspecti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rog 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31237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minique Sible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0E4C-95C9-4100-96EE-5058B5F09E08}" type="datetime2"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dnesday, July 29, 2026</a:t>
            </a:fld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ribe exactly what you want the user to do after they see your movie. For example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e audience memnbers will be able to name the habitat, adaptation  and environment of the Golden Montazah chick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y to personalize the pit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 Your Ide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 a great story tel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ree act structu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very familiar for fi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 I: Characters and Setting. End with inro of problem/go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 II: Solving the problem. End with Climax: the problem gets solv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 III: Happy ever after p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siness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lain how you make money:  who will see your movi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will your movie be special and differen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20:49:56Z</dcterms:created>
  <dc:creator/>
  <dc:description/>
  <dc:language>en-US</dc:language>
  <cp:lastModifiedBy>City School</cp:lastModifiedBy>
  <dcterms:modified xsi:type="dcterms:W3CDTF">2013-02-19T21:17:02Z</dcterms:modified>
  <cp:revision>38</cp:revision>
  <dc:subject/>
  <dc:title>The Pitch-Then-Plan Business Planning Template</dc:title>
</cp:coreProperties>
</file>